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1665360" y="90972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370160" y="1986120"/>
            <a:ext cx="48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比的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化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952560" y="50068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29840" y="19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解决问题，巩固发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82560" y="486900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信息中你知道了什么？要求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88960" y="573408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馈交流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什么数？为什么要除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200240" y="3967200"/>
            <a:ext cx="59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÷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5800" y="6132600"/>
            <a:ext cx="7770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通过上面两个比的化简，你能说说化简整数比的方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476360" y="530208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尝试解决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05080" y="1811160"/>
            <a:ext cx="2568240" cy="1663920"/>
            <a:chOff x="1405080" y="1811160"/>
            <a:chExt cx="2568240" cy="1663920"/>
          </a:xfrm>
        </p:grpSpPr>
        <p:sp>
          <p:nvSpPr>
            <p:cNvPr id="162" name="左大括号 13"/>
            <p:cNvSpPr/>
            <p:nvPr/>
          </p:nvSpPr>
          <p:spPr>
            <a:xfrm rot="16200000">
              <a:off x="2100960" y="2247120"/>
              <a:ext cx="217440" cy="16092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32040 h 1609200"/>
                <a:gd name="textAreaBottom" fmla="*/ 1577160 h 16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80"/>
                  </a:cubicBezTo>
                  <a:lnTo>
                    <a:pt x="10800" y="9420"/>
                  </a:lnTo>
                  <a:cubicBezTo>
                    <a:pt x="10800" y="10110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80"/>
                  </a:cubicBezTo>
                  <a:lnTo>
                    <a:pt x="10800" y="20220"/>
                  </a:lnTo>
                  <a:cubicBezTo>
                    <a:pt x="10800" y="2091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15"/>
            <p:cNvSpPr/>
            <p:nvPr/>
          </p:nvSpPr>
          <p:spPr>
            <a:xfrm>
              <a:off x="1900080" y="3089160"/>
              <a:ext cx="653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左大括号 16"/>
            <p:cNvSpPr/>
            <p:nvPr/>
          </p:nvSpPr>
          <p:spPr>
            <a:xfrm rot="10800000">
              <a:off x="3054960" y="1815480"/>
              <a:ext cx="214560" cy="1079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33120 h 1079640"/>
                <a:gd name="textAreaBottom" fmla="*/ 10465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9"/>
                    <a:pt x="10800" y="2138"/>
                  </a:cubicBezTo>
                  <a:lnTo>
                    <a:pt x="10800" y="8662"/>
                  </a:lnTo>
                  <a:cubicBezTo>
                    <a:pt x="10800" y="9731"/>
                    <a:pt x="5400" y="10800"/>
                    <a:pt x="0" y="10800"/>
                  </a:cubicBezTo>
                  <a:cubicBezTo>
                    <a:pt x="5400" y="10800"/>
                    <a:pt x="10800" y="11869"/>
                    <a:pt x="10800" y="12938"/>
                  </a:cubicBezTo>
                  <a:lnTo>
                    <a:pt x="10800" y="19462"/>
                  </a:lnTo>
                  <a:cubicBezTo>
                    <a:pt x="10800" y="2053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7"/>
            <p:cNvSpPr/>
            <p:nvPr/>
          </p:nvSpPr>
          <p:spPr>
            <a:xfrm>
              <a:off x="3186000" y="2138040"/>
              <a:ext cx="787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420560" y="1811160"/>
              <a:ext cx="161244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4284720" y="1550880"/>
            <a:ext cx="4260600" cy="2727360"/>
            <a:chOff x="4284720" y="1550880"/>
            <a:chExt cx="4260600" cy="272736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300200" y="1550880"/>
              <a:ext cx="32342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左大括号 13"/>
            <p:cNvSpPr/>
            <p:nvPr/>
          </p:nvSpPr>
          <p:spPr>
            <a:xfrm rot="16200000">
              <a:off x="5789160" y="2270520"/>
              <a:ext cx="217440" cy="322632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64440 h 3226320"/>
                <a:gd name="textAreaBottom" fmla="*/ 3161880 h 322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80"/>
                  </a:cubicBezTo>
                  <a:lnTo>
                    <a:pt x="10800" y="9420"/>
                  </a:lnTo>
                  <a:cubicBezTo>
                    <a:pt x="10800" y="10110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80"/>
                  </a:cubicBezTo>
                  <a:lnTo>
                    <a:pt x="10800" y="20220"/>
                  </a:lnTo>
                  <a:cubicBezTo>
                    <a:pt x="10800" y="2091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5"/>
            <p:cNvSpPr/>
            <p:nvPr/>
          </p:nvSpPr>
          <p:spPr>
            <a:xfrm>
              <a:off x="5553000" y="3892320"/>
              <a:ext cx="7660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左大括号 16"/>
            <p:cNvSpPr/>
            <p:nvPr/>
          </p:nvSpPr>
          <p:spPr>
            <a:xfrm rot="10800000">
              <a:off x="7591680" y="1571400"/>
              <a:ext cx="214560" cy="215928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7"/>
            <p:cNvSpPr/>
            <p:nvPr/>
          </p:nvSpPr>
          <p:spPr>
            <a:xfrm>
              <a:off x="7756200" y="2427120"/>
              <a:ext cx="7891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解决问题，巩固发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5013360"/>
            <a:ext cx="48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尝试解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128600" y="55166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馈交流：为什么要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95280" y="1413000"/>
            <a:ext cx="72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练习拓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1547640" y="2205000"/>
            <a:ext cx="453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把下面各比化成最简单的整数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38040" y="6021360"/>
            <a:ext cx="86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当一个比的前项和后项不是整数时，怎样把它化成最简单整数比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373480" y="2646360"/>
            <a:ext cx="1089000" cy="788040"/>
            <a:chOff x="2373480" y="2646360"/>
            <a:chExt cx="1089000" cy="788040"/>
          </a:xfrm>
        </p:grpSpPr>
        <p:grpSp>
          <p:nvGrpSpPr>
            <p:cNvPr id="180" name=""/>
            <p:cNvGrpSpPr/>
            <p:nvPr/>
          </p:nvGrpSpPr>
          <p:grpSpPr>
            <a:xfrm>
              <a:off x="2373480" y="2655720"/>
              <a:ext cx="511200" cy="778680"/>
              <a:chOff x="2373480" y="2655720"/>
              <a:chExt cx="511200" cy="778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379960" y="3011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73480" y="2655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7760" y="30747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51280" y="2646360"/>
              <a:ext cx="511200" cy="778680"/>
              <a:chOff x="2951280" y="2646360"/>
              <a:chExt cx="511200" cy="778680"/>
            </a:xfrm>
          </p:grpSpPr>
          <p:sp>
            <p:nvSpPr>
              <p:cNvPr id="185" name=""/>
              <p:cNvSpPr/>
              <p:nvPr/>
            </p:nvSpPr>
            <p:spPr>
              <a:xfrm>
                <a:off x="2957760" y="3002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51280" y="2646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95560" y="30654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683440" y="2819520"/>
              <a:ext cx="317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917880" y="281952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73240" y="3519360"/>
            <a:ext cx="5327640" cy="788040"/>
            <a:chOff x="1173240" y="3519360"/>
            <a:chExt cx="5327640" cy="788040"/>
          </a:xfrm>
        </p:grpSpPr>
        <p:grpSp>
          <p:nvGrpSpPr>
            <p:cNvPr id="191" name=""/>
            <p:cNvGrpSpPr/>
            <p:nvPr/>
          </p:nvGrpSpPr>
          <p:grpSpPr>
            <a:xfrm>
              <a:off x="1173240" y="3519360"/>
              <a:ext cx="3294000" cy="788040"/>
              <a:chOff x="1173240" y="3519360"/>
              <a:chExt cx="3294000" cy="7880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173240" y="3519360"/>
                <a:ext cx="1089000" cy="788040"/>
                <a:chOff x="1173240" y="3519360"/>
                <a:chExt cx="1089000" cy="788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1173240" y="3528720"/>
                  <a:ext cx="511200" cy="778680"/>
                  <a:chOff x="1173240" y="3528720"/>
                  <a:chExt cx="511200" cy="7786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179720" y="38844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173240" y="35287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217520" y="394776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751040" y="3519360"/>
                  <a:ext cx="511200" cy="778680"/>
                  <a:chOff x="1751040" y="3519360"/>
                  <a:chExt cx="511200" cy="778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757520" y="38750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751040" y="35193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795320" y="393840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1483200" y="3692520"/>
                  <a:ext cx="317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090880" y="3701880"/>
                <a:ext cx="2376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2685960" y="3519360"/>
                <a:ext cx="511200" cy="778680"/>
                <a:chOff x="2685960" y="3519360"/>
                <a:chExt cx="511200" cy="7786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92440" y="38750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685960" y="35193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730240" y="393840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645000" y="3701880"/>
              <a:ext cx="2855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240440" y="3519360"/>
              <a:ext cx="511200" cy="778680"/>
              <a:chOff x="4240440" y="3519360"/>
              <a:chExt cx="511200" cy="778680"/>
            </a:xfrm>
          </p:grpSpPr>
          <p:sp>
            <p:nvSpPr>
              <p:cNvPr id="209" name=""/>
              <p:cNvSpPr/>
              <p:nvPr/>
            </p:nvSpPr>
            <p:spPr>
              <a:xfrm>
                <a:off x="4246920" y="3875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40440" y="351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84720" y="39384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1116000" y="4508640"/>
            <a:ext cx="712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解决问题，巩固发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619280" y="4365720"/>
            <a:ext cx="46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自己尝试解决；反馈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95280" y="1413000"/>
            <a:ext cx="72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综合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589040" y="2205000"/>
            <a:ext cx="46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把下面各比化成最简单的整数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619280" y="2781360"/>
            <a:ext cx="139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427120" y="2771640"/>
            <a:ext cx="13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05280" y="278136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721400" y="277164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6184800" y="2781360"/>
            <a:ext cx="139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300800" y="278136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417760" y="3543480"/>
            <a:ext cx="139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727520" y="3543480"/>
            <a:ext cx="139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7334280" y="352908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616040" y="3400560"/>
            <a:ext cx="1089000" cy="788040"/>
            <a:chOff x="1616040" y="3400560"/>
            <a:chExt cx="1089000" cy="788040"/>
          </a:xfrm>
        </p:grpSpPr>
        <p:grpSp>
          <p:nvGrpSpPr>
            <p:cNvPr id="228" name=""/>
            <p:cNvGrpSpPr/>
            <p:nvPr/>
          </p:nvGrpSpPr>
          <p:grpSpPr>
            <a:xfrm>
              <a:off x="1616040" y="3409920"/>
              <a:ext cx="511200" cy="778680"/>
              <a:chOff x="1616040" y="3409920"/>
              <a:chExt cx="511200" cy="778680"/>
            </a:xfrm>
          </p:grpSpPr>
          <p:sp>
            <p:nvSpPr>
              <p:cNvPr id="229" name=""/>
              <p:cNvSpPr/>
              <p:nvPr/>
            </p:nvSpPr>
            <p:spPr>
              <a:xfrm>
                <a:off x="1622520" y="37656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16040" y="3409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60320" y="38289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93840" y="3400560"/>
              <a:ext cx="511200" cy="778680"/>
              <a:chOff x="2193840" y="3400560"/>
              <a:chExt cx="511200" cy="778680"/>
            </a:xfrm>
          </p:grpSpPr>
          <p:sp>
            <p:nvSpPr>
              <p:cNvPr id="233" name=""/>
              <p:cNvSpPr/>
              <p:nvPr/>
            </p:nvSpPr>
            <p:spPr>
              <a:xfrm>
                <a:off x="2200320" y="3756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93840" y="3400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38120" y="38196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926000" y="3573720"/>
              <a:ext cx="317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786120" y="3395520"/>
            <a:ext cx="1236600" cy="778680"/>
            <a:chOff x="3786120" y="3395520"/>
            <a:chExt cx="1236600" cy="778680"/>
          </a:xfrm>
        </p:grpSpPr>
        <p:grpSp>
          <p:nvGrpSpPr>
            <p:cNvPr id="238" name=""/>
            <p:cNvGrpSpPr/>
            <p:nvPr/>
          </p:nvGrpSpPr>
          <p:grpSpPr>
            <a:xfrm>
              <a:off x="4511520" y="3395520"/>
              <a:ext cx="511200" cy="778680"/>
              <a:chOff x="4511520" y="3395520"/>
              <a:chExt cx="511200" cy="778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518000" y="3751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11520" y="33955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5800" y="38145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34320" y="3568680"/>
              <a:ext cx="317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786120" y="3395520"/>
              <a:ext cx="504720" cy="778680"/>
              <a:chOff x="3786120" y="3395520"/>
              <a:chExt cx="504720" cy="778680"/>
            </a:xfrm>
          </p:grpSpPr>
          <p:sp>
            <p:nvSpPr>
              <p:cNvPr id="244" name=""/>
              <p:cNvSpPr/>
              <p:nvPr/>
            </p:nvSpPr>
            <p:spPr>
              <a:xfrm>
                <a:off x="3786120" y="3751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75040" y="33955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52720" y="3814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6195240" y="3394080"/>
            <a:ext cx="1434240" cy="778680"/>
            <a:chOff x="6195240" y="3394080"/>
            <a:chExt cx="1434240" cy="778680"/>
          </a:xfrm>
        </p:grpSpPr>
        <p:grpSp>
          <p:nvGrpSpPr>
            <p:cNvPr id="248" name=""/>
            <p:cNvGrpSpPr/>
            <p:nvPr/>
          </p:nvGrpSpPr>
          <p:grpSpPr>
            <a:xfrm>
              <a:off x="7118280" y="3394080"/>
              <a:ext cx="511200" cy="778680"/>
              <a:chOff x="7118280" y="3394080"/>
              <a:chExt cx="511200" cy="778680"/>
            </a:xfrm>
          </p:grpSpPr>
          <p:sp>
            <p:nvSpPr>
              <p:cNvPr id="249" name=""/>
              <p:cNvSpPr/>
              <p:nvPr/>
            </p:nvSpPr>
            <p:spPr>
              <a:xfrm>
                <a:off x="7124760" y="3749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18280" y="3394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62560" y="381312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6195240" y="3584520"/>
              <a:ext cx="94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125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800760" y="3089160"/>
            <a:ext cx="1548000" cy="2590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757920" y="1301760"/>
            <a:ext cx="1633680" cy="1835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139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拓展，介绍黄金比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07800" y="459900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听说过“黄金比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114560" y="6256440"/>
            <a:ext cx="646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了解生活中的黄金比吗？课下查阅相关的资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395280" y="1484280"/>
            <a:ext cx="60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把一条线段分成两部分，如果较短部分与较长部分长度之比等于较长部分与整体长度之比，我们把这个比称为黄金比（约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618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。当一个物体的两个部分长度的比大致符合黄金比时，常常会给人以一种优美的视觉感受，所以，设计许多物品时都含有黄金比这一因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2595600" y="5535720"/>
            <a:ext cx="363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找一找除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外还有其他线段长度符合黄金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4"/>
          <p:cNvSpPr/>
          <p:nvPr/>
        </p:nvSpPr>
        <p:spPr>
          <a:xfrm>
            <a:off x="2227680" y="5078520"/>
            <a:ext cx="1561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示图片欣赏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介绍黄金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760880" y="1460520"/>
            <a:ext cx="597600" cy="385920"/>
            <a:chOff x="7760880" y="1460520"/>
            <a:chExt cx="597600" cy="385920"/>
          </a:xfrm>
        </p:grpSpPr>
        <p:sp>
          <p:nvSpPr>
            <p:cNvPr id="262" name="TextBox 26"/>
            <p:cNvSpPr/>
            <p:nvPr/>
          </p:nvSpPr>
          <p:spPr>
            <a:xfrm>
              <a:off x="7926480" y="1460520"/>
              <a:ext cx="270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直接箭头连接符 27"/>
            <p:cNvCxnSpPr/>
            <p:nvPr/>
          </p:nvCxnSpPr>
          <p:spPr>
            <a:xfrm flipH="1">
              <a:off x="7760880" y="1703160"/>
              <a:ext cx="216720" cy="1080"/>
            </a:xfrm>
            <a:prstGeom prst="straightConnector1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64" name="直接箭头连接符 28"/>
            <p:cNvCxnSpPr/>
            <p:nvPr/>
          </p:nvCxnSpPr>
          <p:spPr>
            <a:xfrm>
              <a:off x="8142120" y="1693440"/>
              <a:ext cx="216720" cy="1080"/>
            </a:xfrm>
            <a:prstGeom prst="straightConnector1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65" name=""/>
          <p:cNvGrpSpPr/>
          <p:nvPr/>
        </p:nvGrpSpPr>
        <p:grpSpPr>
          <a:xfrm>
            <a:off x="7687080" y="3195000"/>
            <a:ext cx="282960" cy="1008720"/>
            <a:chOff x="7687080" y="3195000"/>
            <a:chExt cx="282960" cy="1008720"/>
          </a:xfrm>
        </p:grpSpPr>
        <p:cxnSp>
          <p:nvCxnSpPr>
            <p:cNvPr id="266" name="直接箭头连接符 17"/>
            <p:cNvCxnSpPr/>
            <p:nvPr/>
          </p:nvCxnSpPr>
          <p:spPr>
            <a:xfrm flipV="1">
              <a:off x="7846560" y="3195000"/>
              <a:ext cx="1080" cy="361080"/>
            </a:xfrm>
            <a:prstGeom prst="straightConnector1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67" name="直接箭头连接符 23"/>
            <p:cNvCxnSpPr/>
            <p:nvPr/>
          </p:nvCxnSpPr>
          <p:spPr>
            <a:xfrm>
              <a:off x="7846560" y="3771720"/>
              <a:ext cx="1080" cy="432360"/>
            </a:xfrm>
            <a:prstGeom prst="straightConnector1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268" name="TextBox 49"/>
            <p:cNvSpPr/>
            <p:nvPr/>
          </p:nvSpPr>
          <p:spPr>
            <a:xfrm>
              <a:off x="7687080" y="3382920"/>
              <a:ext cx="282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541520" y="5897520"/>
            <a:ext cx="1964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也符合黄金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47760" y="285840"/>
            <a:ext cx="841032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971640" y="2419200"/>
            <a:ext cx="9072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比的基本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192320" y="3933720"/>
            <a:ext cx="72673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小明、小强和小丽谁折得快？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创设情境，激发兴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187280" y="2133720"/>
            <a:ext cx="7345440" cy="180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明、小强、小丽都喜欢制作折纸。有一天，他们三人在争论谁每分钟折的纸鹤数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明说：“我折的纸鹤数与时间（分）的比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强说：“我折的纸鹤数与时间（分）的比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丽说：“我折的纸鹤数与时间（分）的比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97000" y="4724280"/>
            <a:ext cx="4300560" cy="2192400"/>
            <a:chOff x="1197000" y="4724280"/>
            <a:chExt cx="4300560" cy="2192400"/>
          </a:xfrm>
        </p:grpSpPr>
        <p:grpSp>
          <p:nvGrpSpPr>
            <p:cNvPr id="48" name=""/>
            <p:cNvGrpSpPr/>
            <p:nvPr/>
          </p:nvGrpSpPr>
          <p:grpSpPr>
            <a:xfrm>
              <a:off x="2041560" y="4724280"/>
              <a:ext cx="3456000" cy="2192400"/>
              <a:chOff x="2041560" y="4724280"/>
              <a:chExt cx="3456000" cy="2192400"/>
            </a:xfrm>
          </p:grpSpPr>
          <p:sp>
            <p:nvSpPr>
              <p:cNvPr id="49" name=""/>
              <p:cNvSpPr/>
              <p:nvPr/>
            </p:nvSpPr>
            <p:spPr>
              <a:xfrm>
                <a:off x="2041560" y="4830480"/>
                <a:ext cx="3456000" cy="20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3702240" y="4733640"/>
                <a:ext cx="511200" cy="778680"/>
                <a:chOff x="3702240" y="4733640"/>
                <a:chExt cx="511200" cy="7786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708720" y="50893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702240" y="47336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746520" y="515268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206960" y="4724280"/>
                <a:ext cx="511200" cy="778680"/>
                <a:chOff x="4206960" y="4724280"/>
                <a:chExt cx="511200" cy="778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213440" y="50799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06960" y="47242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51240" y="514332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703680" y="5348160"/>
                <a:ext cx="511200" cy="778680"/>
                <a:chOff x="3703680" y="5348160"/>
                <a:chExt cx="511200" cy="778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710160" y="57038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703680" y="5348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747960" y="576720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264200" y="5943600"/>
                <a:ext cx="504720" cy="778320"/>
                <a:chOff x="4264200" y="5943600"/>
                <a:chExt cx="504720" cy="7783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64200" y="62989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272120" y="5943600"/>
                  <a:ext cx="476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330800" y="63622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917960" y="5935680"/>
                <a:ext cx="511200" cy="778320"/>
                <a:chOff x="4917960" y="5935680"/>
                <a:chExt cx="511200" cy="7783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924440" y="62910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17960" y="59356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62240" y="635436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" name=""/>
            <p:cNvSpPr/>
            <p:nvPr/>
          </p:nvSpPr>
          <p:spPr>
            <a:xfrm>
              <a:off x="1197000" y="4859280"/>
              <a:ext cx="950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比的基本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26920" y="4467240"/>
            <a:ext cx="72676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三个比有什么相同和不同之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631880" y="5448240"/>
            <a:ext cx="689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三个比中有什么规律？这与除法中的商不变的性质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联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创设情境，激发兴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022480" y="2193840"/>
            <a:ext cx="3456000" cy="2192400"/>
            <a:chOff x="2022480" y="2193840"/>
            <a:chExt cx="3456000" cy="2192400"/>
          </a:xfrm>
        </p:grpSpPr>
        <p:sp>
          <p:nvSpPr>
            <p:cNvPr id="77" name=""/>
            <p:cNvSpPr/>
            <p:nvPr/>
          </p:nvSpPr>
          <p:spPr>
            <a:xfrm>
              <a:off x="2022480" y="2300040"/>
              <a:ext cx="345600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683160" y="2203200"/>
              <a:ext cx="511200" cy="778680"/>
              <a:chOff x="3683160" y="2203200"/>
              <a:chExt cx="511200" cy="778680"/>
            </a:xfrm>
          </p:grpSpPr>
          <p:sp>
            <p:nvSpPr>
              <p:cNvPr id="79" name=""/>
              <p:cNvSpPr/>
              <p:nvPr/>
            </p:nvSpPr>
            <p:spPr>
              <a:xfrm>
                <a:off x="3689640" y="2558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3160" y="2203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27440" y="26222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187880" y="2193840"/>
              <a:ext cx="511200" cy="778680"/>
              <a:chOff x="4187880" y="2193840"/>
              <a:chExt cx="511200" cy="778680"/>
            </a:xfrm>
          </p:grpSpPr>
          <p:sp>
            <p:nvSpPr>
              <p:cNvPr id="83" name=""/>
              <p:cNvSpPr/>
              <p:nvPr/>
            </p:nvSpPr>
            <p:spPr>
              <a:xfrm>
                <a:off x="4194360" y="2549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87880" y="2193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2160" y="26128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684600" y="2817720"/>
              <a:ext cx="511200" cy="778680"/>
              <a:chOff x="3684600" y="2817720"/>
              <a:chExt cx="511200" cy="778680"/>
            </a:xfrm>
          </p:grpSpPr>
          <p:sp>
            <p:nvSpPr>
              <p:cNvPr id="87" name=""/>
              <p:cNvSpPr/>
              <p:nvPr/>
            </p:nvSpPr>
            <p:spPr>
              <a:xfrm>
                <a:off x="3691080" y="3173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684600" y="2817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8880" y="32367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245120" y="3413160"/>
              <a:ext cx="504720" cy="778320"/>
              <a:chOff x="4245120" y="3413160"/>
              <a:chExt cx="504720" cy="778320"/>
            </a:xfrm>
          </p:grpSpPr>
          <p:sp>
            <p:nvSpPr>
              <p:cNvPr id="91" name=""/>
              <p:cNvSpPr/>
              <p:nvPr/>
            </p:nvSpPr>
            <p:spPr>
              <a:xfrm>
                <a:off x="4245120" y="3768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253040" y="341316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11720" y="3831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898880" y="3405240"/>
              <a:ext cx="511200" cy="778320"/>
              <a:chOff x="4898880" y="3405240"/>
              <a:chExt cx="511200" cy="77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905360" y="3760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98880" y="3405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43160" y="382392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4562280" y="5091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比的前项、后项都不相同，可是比值却相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比的基本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11280" y="508464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借助商不变的性质你发现比中有什么规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11280" y="575784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比的前项和后项同时乘或除以相同的数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外），比值不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叫做比的基本性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自主探究，汇报交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124000" y="2349360"/>
            <a:ext cx="453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25800" y="4292640"/>
            <a:ext cx="453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24000" y="3530520"/>
            <a:ext cx="920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124000" y="3141720"/>
            <a:ext cx="7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3065400" y="3130560"/>
            <a:ext cx="199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6"/>
          <p:cNvSpPr/>
          <p:nvPr/>
        </p:nvSpPr>
        <p:spPr>
          <a:xfrm>
            <a:off x="5272200" y="3132000"/>
            <a:ext cx="136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18"/>
          <p:cNvSpPr/>
          <p:nvPr/>
        </p:nvSpPr>
        <p:spPr>
          <a:xfrm>
            <a:off x="4140360" y="2765520"/>
            <a:ext cx="144360" cy="4334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19"/>
          <p:cNvSpPr/>
          <p:nvPr/>
        </p:nvSpPr>
        <p:spPr>
          <a:xfrm>
            <a:off x="2427120" y="2765520"/>
            <a:ext cx="142920" cy="4334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20"/>
          <p:cNvSpPr/>
          <p:nvPr/>
        </p:nvSpPr>
        <p:spPr>
          <a:xfrm>
            <a:off x="5959440" y="2765520"/>
            <a:ext cx="144360" cy="4334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2652840" y="3529080"/>
            <a:ext cx="287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5235480" y="3529080"/>
            <a:ext cx="126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下箭头 23"/>
          <p:cNvSpPr/>
          <p:nvPr/>
        </p:nvSpPr>
        <p:spPr>
          <a:xfrm rot="10800000">
            <a:off x="2411280" y="3933720"/>
            <a:ext cx="144720" cy="43200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下箭头 24"/>
          <p:cNvSpPr/>
          <p:nvPr/>
        </p:nvSpPr>
        <p:spPr>
          <a:xfrm rot="10800000">
            <a:off x="4140000" y="393372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下箭头 25"/>
          <p:cNvSpPr/>
          <p:nvPr/>
        </p:nvSpPr>
        <p:spPr>
          <a:xfrm rot="10800000">
            <a:off x="5803560" y="393372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7575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比的基本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20680" y="40766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说一说你是怎样快速说出比值的？根据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质疑辨析，深化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116000" y="2276640"/>
            <a:ext cx="5327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说出下面各比的比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0280" y="2617920"/>
            <a:ext cx="36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0" y="3029040"/>
            <a:ext cx="36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21160" y="3457440"/>
            <a:ext cx="36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16000" y="2278080"/>
            <a:ext cx="532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判断并说明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比的基本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192320" y="422100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你觉得这种做法正确吗？如果错误，错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质疑辨析，深化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解决问题，巩固发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87280" y="4005360"/>
            <a:ext cx="705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哪些是整数比？哪些比的前项和后项是互质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95280" y="1413000"/>
            <a:ext cx="64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明确什么是最简单的整数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187280" y="465300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前项和后项都是整数，而且又是互质数，这样的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就叫最简单整数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763640" y="2492280"/>
            <a:ext cx="518472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7     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      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      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       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解决问题，巩固发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95280" y="142236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化简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298520" y="207972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舟”五号搭载了两面联合国旗，一面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另一面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这两面联合国旗的长和宽的最简单的整数比分别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22840" y="2084400"/>
            <a:ext cx="2757600" cy="18730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971640" y="4581360"/>
            <a:ext cx="2568240" cy="1663920"/>
            <a:chOff x="971640" y="4581360"/>
            <a:chExt cx="2568240" cy="1663920"/>
          </a:xfrm>
        </p:grpSpPr>
        <p:sp>
          <p:nvSpPr>
            <p:cNvPr id="142" name="左大括号 13"/>
            <p:cNvSpPr/>
            <p:nvPr/>
          </p:nvSpPr>
          <p:spPr>
            <a:xfrm rot="16200000">
              <a:off x="1667520" y="5017320"/>
              <a:ext cx="217440" cy="16092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32040 h 1609200"/>
                <a:gd name="textAreaBottom" fmla="*/ 1577160 h 16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80"/>
                  </a:cubicBezTo>
                  <a:lnTo>
                    <a:pt x="10800" y="9420"/>
                  </a:lnTo>
                  <a:cubicBezTo>
                    <a:pt x="10800" y="10110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80"/>
                  </a:cubicBezTo>
                  <a:lnTo>
                    <a:pt x="10800" y="20220"/>
                  </a:lnTo>
                  <a:cubicBezTo>
                    <a:pt x="10800" y="2091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5"/>
            <p:cNvSpPr/>
            <p:nvPr/>
          </p:nvSpPr>
          <p:spPr>
            <a:xfrm>
              <a:off x="1466640" y="5859360"/>
              <a:ext cx="653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左大括号 16"/>
            <p:cNvSpPr/>
            <p:nvPr/>
          </p:nvSpPr>
          <p:spPr>
            <a:xfrm rot="10800000">
              <a:off x="2621520" y="4585680"/>
              <a:ext cx="214560" cy="1079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33120 h 1079640"/>
                <a:gd name="textAreaBottom" fmla="*/ 10465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9"/>
                    <a:pt x="10800" y="2138"/>
                  </a:cubicBezTo>
                  <a:lnTo>
                    <a:pt x="10800" y="8662"/>
                  </a:lnTo>
                  <a:cubicBezTo>
                    <a:pt x="10800" y="9731"/>
                    <a:pt x="5400" y="10800"/>
                    <a:pt x="0" y="10800"/>
                  </a:cubicBezTo>
                  <a:cubicBezTo>
                    <a:pt x="5400" y="10800"/>
                    <a:pt x="10800" y="11869"/>
                    <a:pt x="10800" y="12938"/>
                  </a:cubicBezTo>
                  <a:lnTo>
                    <a:pt x="10800" y="19462"/>
                  </a:lnTo>
                  <a:cubicBezTo>
                    <a:pt x="10800" y="2053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7"/>
            <p:cNvSpPr/>
            <p:nvPr/>
          </p:nvSpPr>
          <p:spPr>
            <a:xfrm>
              <a:off x="2752560" y="4908240"/>
              <a:ext cx="787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87120" y="4581360"/>
              <a:ext cx="161244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3851280" y="4111560"/>
            <a:ext cx="4260600" cy="2727360"/>
            <a:chOff x="3851280" y="4111560"/>
            <a:chExt cx="4260600" cy="272736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3866760" y="4111560"/>
              <a:ext cx="32342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左大括号 13"/>
            <p:cNvSpPr/>
            <p:nvPr/>
          </p:nvSpPr>
          <p:spPr>
            <a:xfrm rot="16200000">
              <a:off x="5355720" y="4831200"/>
              <a:ext cx="217440" cy="322632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64440 h 3226320"/>
                <a:gd name="textAreaBottom" fmla="*/ 3161880 h 322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80"/>
                  </a:cubicBezTo>
                  <a:lnTo>
                    <a:pt x="10800" y="9420"/>
                  </a:lnTo>
                  <a:cubicBezTo>
                    <a:pt x="10800" y="10110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80"/>
                  </a:cubicBezTo>
                  <a:lnTo>
                    <a:pt x="10800" y="20220"/>
                  </a:lnTo>
                  <a:cubicBezTo>
                    <a:pt x="10800" y="2091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5"/>
            <p:cNvSpPr/>
            <p:nvPr/>
          </p:nvSpPr>
          <p:spPr>
            <a:xfrm>
              <a:off x="5119560" y="6453000"/>
              <a:ext cx="7660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左大括号 16"/>
            <p:cNvSpPr/>
            <p:nvPr/>
          </p:nvSpPr>
          <p:spPr>
            <a:xfrm rot="10800000">
              <a:off x="7158240" y="4132080"/>
              <a:ext cx="214560" cy="215928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7"/>
            <p:cNvSpPr/>
            <p:nvPr/>
          </p:nvSpPr>
          <p:spPr>
            <a:xfrm>
              <a:off x="7322760" y="4987800"/>
              <a:ext cx="7891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3080" y="28116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24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